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0EA3-7D04-423E-AE6E-0C88500C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9B1-2580-4FED-8B54-3655BD54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171C2-44F3-4567-A48B-FC2AF9C9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95744-989F-489B-A410-E2A3DBE6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D9093-0BDB-4C23-9EC7-09DEFB0A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63976-BC2A-4FF8-8E22-019693FE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C8DED-0CBA-4106-A4BF-A556BC99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96CB4-C202-4E3C-B800-4644583F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2FEDD-F2DA-4BF0-AC2D-D6455033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4B28C-7EF1-4BA7-B32E-64DF5D2A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E166E-F53F-4E3A-BB0D-6A0BB618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41B3F-E69D-49F8-9823-5D747B55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02B-3754-4F99-A2DA-3C8FBC97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48E54-9240-4562-99A7-6736AED5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DFAE1-79E6-4629-9326-DB94DA0A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522B9-7714-44AB-B573-B4D957CB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2244A-B7E5-415F-9764-3FB4295B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938FA-3271-44DA-97E2-CB716DE2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7E6B6-2AFF-4E78-8FF5-716CBEF6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EFE50-49E2-4BA8-9DAA-991505A1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D86BD-F740-4F4E-965F-650007E2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D3495-9AF4-4F81-A4A0-D9F73633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4C108-DF34-47D9-AAE5-9311B45B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E50-E732-4301-A0CA-2E3913A7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35721-1A66-4E08-B09E-6E72F85E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4E1C9-56C3-4294-8429-A2B55112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1FC06-5ECE-4494-9CEC-6D2A997B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FC31D-7291-4F12-B3DE-D41F4F5A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FC252-B63E-4628-8AC4-F1A739FC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38745-8885-4C22-BE0A-9F905649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5CED0-3B02-43A5-8425-BF650A9B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F7B12-644E-46C8-8D0B-0899E132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D41F2-A27A-47DC-AAC8-76D0BD4F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9673C-1831-4481-A590-C7F7783D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689B-87B7-4794-A0AA-4E5266B7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AC832-60F0-4193-ABA5-64A23517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45848-65FF-413E-B4B2-EAD16BBA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C9BFD-0467-434D-8EDE-EF9915B5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AD5CC-AF56-4FEF-B1AA-8F283A48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60509-87DE-4813-94DD-667FAAEA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DA6A5-A95E-4D5E-9B9E-02809720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EF196-1F23-4207-9861-D460B0A1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EF38C-762E-4D81-A6B2-AA6EA4CE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EF754-5F3F-476E-BE85-C34E4239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D2569-DD9C-41A1-A848-5A2FE4D3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65DF-F10A-460D-A6E4-9A3058A2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B8FEC-FC53-4B84-9FE4-A0E1785B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5BEBF-9FEE-454F-9E82-CAA91BD6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CBB66-5E34-4834-9317-59BE74D7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529FF-5B19-465A-BB75-D63B2E3B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DA7FD-7082-440A-BA23-E1DBB5B3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E0FE2-E9B6-4BAB-A968-DC4997A9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2305C2-9DAB-4C48-BC36-34944029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48AE1F-E0B7-43DD-9E94-1943CBC8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A75E9-0F5B-43AB-B3F8-F5C7953F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ABFFE-B630-4FEA-9111-F4BE22D6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9051-03C0-4AAA-8354-0E55599D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AE3D8-A26B-45AC-9EE4-98A1D15A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F661E4-F6FD-4526-8801-CF06078E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45E1C-AA4E-4FEB-A031-D49E0FA5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97A8C-3647-452A-9AC6-E152B171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D3477-BDC8-4293-8166-CEE4014D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53EEE-12FD-4019-BD10-F1BCA4D4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5D12CB-D998-4BBA-8C16-AEB77466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1014A3-ACEE-465C-85C4-10EA0A19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A1A4E-01E4-4674-BB13-7E18C586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7C47C0-BA11-4CFB-AFC9-8AC9726B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888E-B186-4C98-96B8-49EAA4D1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FF681-7413-4647-BCD6-E39AC3AB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E09082-5304-4FF9-A55B-F92CAAC8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4E0FFB-248D-494B-A0A3-2065F17A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3BCD9-4C9B-4628-AD40-83758A16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84DBC2-F514-4C6D-B2C8-BBF3D8C1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A0EA0B-75A8-4E3F-A4C1-B6CB21C0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49DCB1-438C-4CAC-A89A-D872264A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9982C7-DFAB-46DB-A732-DB550255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1A74C-D312-4303-AD4F-01DDE865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58D5C7-DBBC-438A-AE00-A88764C4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5FB2-9214-4FD4-AF1E-D9B9B21A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061AD2-894A-460C-81EF-FA1D379F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434118-7F1D-4D9F-8738-4FBA5C01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8BF55D-E300-4EF3-8AEB-5B1E5BF8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F6D32E-EE02-47B1-9BE1-141221F6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A70E04-F74F-49DB-B1C7-7DD29E7E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882D05-147F-47F4-87EA-2A66437A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70D3F1-70CE-4226-9721-A3E52DDC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BB8025-2C7C-4415-84FF-CDB9059D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9E041C-45AB-4F04-B1D8-75631624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37990D-83F0-4AA2-97B5-25E06C02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F647-E0F4-4A35-8B72-8980B2EE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F5E31A-D3DB-4AC6-97B1-28F77CA6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E24CB4-4F28-451B-81B3-64A3F445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7753E8-2B9F-4682-BA85-82C30703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25B356-D0D7-4044-B105-AC4E1A4D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F67C5A-F402-472F-A3FD-146AC4BF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0AF858-4540-4022-A611-4E2C0684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AAAF1A-8B1B-4C38-AFC4-DF112CC0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F65491-C6EC-4156-BCA9-A69255C3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3BCE3-2DC3-489C-B73E-12354BA9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F211C9-2FF4-4AB1-8BB7-B32F6CF2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8450-2733-437E-B420-306AA6EC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160385-00F3-4A68-B67B-709D6330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11E660-7235-4339-99A2-1A87C796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71CD41-FF4A-431F-B7FC-2FC76ACF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A65F89-3451-4718-9B8E-3F2201F9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240460-FC0E-47FF-92A7-B9D5B813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EC9D29-421C-4805-A917-EB785846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AEA0E0-F9A3-49F8-A70F-B07729B7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C0899F-A16D-45B5-B700-03B628B4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6315B6-715B-47FE-A910-B9EB90F5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89AE38-7C27-4380-B81C-615E971E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27DA-E4BE-4EDF-9545-64B1EFC5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8C97-C145-47FD-A35B-20928716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565A8E-91CB-46C8-80A4-E4DA2434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459E85-6641-4F35-80F6-76A57E22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EE2753-6584-4D9A-8D99-068EA0FA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F89EE8-D990-4A74-942E-865DC959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E42E0C-7FC3-4191-9026-192DD29D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5D8E8F-A143-4B45-ADC6-42593C44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227B14-D656-4DFC-9C1B-CB9AE168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23E74C-EFB5-4E71-87BF-276C1CA3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E0CAAB-5EEF-4684-8D95-65F30CBB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FDB3E0-653D-4583-957F-1D6ECB46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9DCD-F947-4C9F-B13B-50AEC994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EAB133-60AB-4560-90D2-ED8046FF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B28151-E594-4ECF-A4EA-7E295A0C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CFF335-ACD6-4CF3-81FD-BCC61999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20B2DD-9763-4BC8-88F4-BEB494E9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C62085-6893-4FD1-BAF9-9FA27BF9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96F936-143F-418A-9FC9-2F104212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074F83-A6C1-4B61-A736-59747505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FAFAE2-754F-459F-B5CA-F6288670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67C8F6-3961-4CC6-A882-A602436B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7A4B6B-FF75-4731-89F7-D09C9DE0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4FA8-C7B8-41A9-A58B-0F4DF685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540230-ABAD-49DD-AF80-A9292876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8940BB-52E7-4FF6-8870-625B09A4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5BC420-DD06-4A3B-8296-0F0D42A7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B96CB8-3D17-472A-983B-4DB3F7FD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4C2EF4-4915-4DEB-9CB4-7BBCFB42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427507-977C-4FBD-8574-759CC61C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6FA6E4-2794-4916-8A64-765E4CB6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7B03E4-BEEA-49B1-8D44-DB23CF9C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30D51A-2D4C-48B5-AC53-9AF941DF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F3379E-7DE3-4EB5-99A5-11285C9C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5A9C-248A-4F99-800D-7A9E0024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2E4A7D-C8CD-461A-B7BA-D55909BE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61C2A4-B810-4E18-8185-E69EFFDA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85FF5F-F743-490E-BE2F-43F2DFFB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9D7622-19F4-4644-930C-BEB71522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5C7BC6-E740-4BE2-B89B-BF999AD2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8778B4-9A93-4DFC-9099-C2469168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D285D5-3570-49FD-83FB-E5FD9058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329A4B-E41C-4341-86C6-0308EAEC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E7C677-E06E-4B08-B637-BEB7261E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0857B2-4F66-400D-9464-BD307B49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1F45-6161-47E3-9CBD-EB885A6F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B39B66-D77F-411C-8E9C-98A8B7D3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E97233-6BEA-4DE6-B772-FB8A73C0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8F6B98-00FE-49A5-8DD7-561942A3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5945B9-6F94-4307-A577-98B0103C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AA3836-2F75-4C36-A0D6-B108CD8F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F6A9FC-5489-441E-BD7A-9ED8FD47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F18468-2C9D-4B2B-BDF3-5AA28CD5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5B71F2-69D1-4DFD-96CE-B72E2433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E31BFB-99D4-4918-9DC7-615321D7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7E85F2-107A-4874-A108-A178A537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B901C-0BDF-4145-BC04-3DD29E0E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03A86B-EAB6-4F16-8C9D-2DDB23A3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B8CDA3-53A7-4050-8486-ABA4C061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56E590-E5F7-401F-AA66-025247CF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6735CD-51CE-4B9B-ADC1-8069AC46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70A8F1-F64E-43E7-BD4B-3A69B7E3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40528C-BB95-44C5-A777-F20D4FEB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1570B6-0C0E-497E-9D72-B53C4226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65FC88-5D95-47EF-9CB9-EE605EC1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B76847-505F-4B99-B176-210A5423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DE6B62-177B-4C43-861D-AF7294F5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8217E-C7EF-4B0B-BF4D-6EE0EE8F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2CD5E0-0B2C-4001-93A6-596C629F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4AECF6-C7CC-41C4-BB39-28567787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A8C37C-6B35-44D4-BB71-6DC5F9E5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37AFB2-DD80-4B8F-B752-6B4F6469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0B8F4F-9908-430F-824F-FD1EACD8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61A30D-A118-41FE-8304-F1EA81E5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8FA1FC-466F-444A-BF42-A1DCCD3B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491AC2-2722-4E0B-AE7E-E4EE11DE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904DAD-F746-478A-AE8D-C313E849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CFA355-3AC2-4C5C-9C4E-D4D18CCA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C50E1-5231-4BDB-90D7-1E159E56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99681E-6FB3-45F9-8638-35EA4FEF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004EF1-93D7-49CD-AC47-0F1333C2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5C4668-6594-4B34-AB78-2BC4D300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1CDBE4-6257-4CC5-80D2-FEE05C2C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996067-7CCC-4525-848E-F2E4F8CB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912B4C-B4F8-44F6-A6EE-3FFC7B36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158AAA-432F-4DF6-A9AB-7F6B803D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939A49-08D5-41FB-8D7A-CEBB0B6C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91959B-E8CE-45D4-960F-946C5456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2E5457-B3D1-49EE-A857-D8AB2A6A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0BD3E-ECEC-4CD7-866D-318160AF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B52717-0881-414B-8CA1-9F0ED302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A15485-A559-4C43-ACFA-704DC93C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62BC66-A12E-4089-A171-D51F3643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7616D5-96D4-42AE-8372-ADFEF7AA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F72C23-FFF7-4DE3-B030-93B788E5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0FE4B8-6234-456C-BBAA-12A7F1EC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48819F-C4E6-47BA-8310-16C04E39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3B6BE3-82CA-4267-9FF2-F3833F11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50724D-6EDD-4A25-82D0-A9A7B7BF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8A7B93-D394-4CF1-AE41-1B0012BE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47C2C-0E96-4B6C-A390-2F0A85F2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4F9FFF-0CC4-40CE-98BE-CD5C9EC7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A5088B-711D-4A97-94AC-D1D2A55A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1382CD-4746-4809-8D8D-4676BC25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EAFCF7-A398-4DC6-8F6E-AD588466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7DBADB-D501-4FCF-9103-9CB4EA86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6073B1-351A-40EB-AF2E-4EC46815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D889C7-4142-497F-9CDB-45AD6B5E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91A558-D174-4477-9F44-FDA85B3B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6E1E31-0DD3-4BAC-8425-CB5F5BE4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FA3502-1F24-492C-8A2D-254BD9DC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171-DD5C-4C64-B60D-C5D589D8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E1FD3-6D33-4D6C-AA41-A3640E59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221233-0C18-4397-9230-E9A45D78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DC4862-C52C-4922-B096-22F2A55A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D246F0-FE1E-4FAB-A3A9-372CA0C1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A98BA8-9020-4F74-B963-80F3FE4A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E2D58E-F9B1-4C06-BE1B-865C5257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33A219-BB62-492A-89CC-BB930A45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9C4DCB-4702-4178-B9FC-F9A8C27A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CB8765-B541-4B88-8EB3-2B41DA99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0A3ABE-9043-4BEF-8F77-5C659A8B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58863B-C369-4CF8-9AB3-6AA3A80A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F4C92-D1D8-40F3-B777-40FF7E84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0BAEC0-D32A-49C6-B083-DA18A38A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4111F1-A42B-4464-B5C8-CF69617A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11A121-FFA2-4C9D-909C-C7FA3B60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EE11B9-D38B-427B-94C3-998F5405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338E17-A5BD-4AAF-B2E4-B2F7FD6C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DF3B2A-3A2E-4DB8-912D-A131F8C9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305986-F555-4D28-80A6-B851FE24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46B565-B803-41E3-8796-8DF92F44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13982D-1E87-4F08-A075-101BFD7B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B14C3F-66F6-464B-AB1B-CFD4D45F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7BBCC-4729-4D54-A3FC-80BEBFE3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9E1C75-E2A9-4E72-BB0B-BFF28334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F83140-606E-4380-ABE6-CC851D10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A54B25-E204-4BA1-B0E6-DB3D0FE0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7F130B-3E13-4D24-B3D7-7E687B9F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49B02E-D217-472D-8393-82D145A3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4A195F-8DE2-4FB0-8D10-79C97356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4BC0DF-7E3F-47C4-90B8-0A68E2D3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D9F40D-8CDE-49C7-A3D2-C2C5C026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6A0E86-9D23-4E6D-9EB9-6B3B3B77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1DAD93-BFDE-456D-8C6C-23810C36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064AF-8EC1-4C82-93F4-6288CE12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3C6D11-1A88-45E2-868B-29824CC6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505ECA-06DE-4B71-8343-1AD882BF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41CD07-1973-4428-89FC-45169207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E7B6CF-ADFA-4BFF-BA9B-DC7B7D6B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C4D6EE-F69B-4508-BA69-787568D7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DF49B4-4B7F-484A-A05F-626B93D9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7D11EE-3791-44BA-871F-2B732F21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E06D6B-492B-4E18-8FE2-51076ECD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A2A6B8-09CF-4F4D-8F22-1319D273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38514C-D0C8-4E5F-8B82-EC7AC758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F8872-AB88-45D5-A480-A054E4F8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F10C36-B1C1-46D5-A328-45D330D1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FE74A6C-E049-4DFF-AFB7-8592CDD2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A86BE1-661C-47B9-9F7C-A9347423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B15E29-0CD7-471C-B2AA-C557DA2A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60936D-00F7-4600-911A-6803DA83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0AF770-10A1-460E-8471-37E6AFB1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D4D92E-1EE3-4D5D-9C4E-CD40F7E6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9746C0-828A-4A94-AF40-1F0FE32C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489A02-D07C-461A-921A-86640612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0E47C3-8EC3-4AA8-BC59-D2F802FE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28C7D-CBC0-4734-9F58-62D08DAF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33C715-4447-43FD-BE6E-C8B7E914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27B095-909A-4367-84A5-259993ED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376995-82D1-46C8-B0EE-1D643E8D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44D13D-E340-45E5-90A4-7B18D8F0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6C59DB-9EF9-461B-BCFA-846FC4F9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E5187B-C666-48BC-A340-3BFAC3A7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A98194-4C85-4DF6-A229-39B1D529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10B1C9-0CB7-4235-AB0C-1BF5683B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EC1A3E-4854-4A7C-8D4D-DA11986B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701308-181D-4B25-96B7-202D8638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2AB55-AE42-457D-8CDD-8C5F33A7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58D9E7-2D11-4F75-899C-95BD2ABF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B4557D-4596-400A-B062-A5F5911B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313A24-51F4-4C19-91A6-7A568712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5206BF-382D-4CC7-BF83-576074AB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FC937C-0BAD-4404-A7BD-6EA1432E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CBF237-82A0-4220-A523-2CB6FDEA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569B49-8688-4F64-8D68-1CB494D5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3F53DF-D288-4817-8E09-64D79666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D78040-3D0A-43B1-BFBE-9A033086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56AB05-AAF3-4E41-A207-53D8DC74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543F8-7FF4-43D4-AF13-696D04F7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5C6A7E-717A-4F22-B992-DD0BA9C7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D6054F-C53E-47C2-B88F-8671E59D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8E4F29-E484-4E06-8AAC-DF745BD2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BDD1D-E363-4891-8DB3-EEB262B2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91542-B0BF-4377-A6DC-803867A0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860-8F2E-497E-967B-CE619C21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3CF0B-095D-424B-8A2C-D45D4BBF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96701-7808-4237-8DFA-A8728A3E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45B4B-A4A0-405C-B1BF-F5E3E035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4FAC5-5582-469E-A30C-B64D4D80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ABDE5-991B-4701-AF9F-A7573E84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F274F-A8D0-45A5-8CA4-E3C12C1E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0639A-A264-4154-B70C-34079EC5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DCE0C-81EF-42C5-9EAF-CC800547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63114-365A-4A72-8E5B-E6D118AF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F2B2B-C161-4A76-8F2D-291F05FD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DFF-F366-4272-99CA-2C3F5F9F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7F3B1-C6E6-45E4-974E-56FCA8A3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63CCF-7227-4BB8-8EC6-B5649C04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D223B-F039-4297-B86D-731FBC1D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842A6-8EEE-4A92-8C01-FD481F23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ACF48-1132-49DF-97AA-647B3A39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6C431-110A-4930-B65C-5E23A892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FDE44-72A2-45A3-8296-60EC7ED5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065F6-7AE1-4911-A009-91243D30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61EC1-316C-48C8-AD63-C3EA763F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7EB06-F72E-4057-A9F8-7381AFE2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AA94-FC2D-42E9-9E81-CE887ADB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42032-6700-4091-8E34-09DFDDD2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C8A2E-4A8C-4FFF-9551-436E4EFD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2981F-56E1-4001-899F-30E2EF15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97805-0486-42D2-BF74-956394CC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E08D0-6E81-481B-BB8E-A7E99587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947AE-662B-4E3A-BA1B-A474954F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499F4-413F-4A5B-BBC8-6E79B5F7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1B7C9-BBFE-4B26-805F-95AD14F2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5A6A7-CFF5-4751-8B70-245F4AB2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6412C-21EA-4900-AE02-DA3EF026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CD37-9731-4893-B3E1-1E362A64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59DE2-F68D-4903-BC2C-FF9A4F89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8BC17-0BFD-4D7D-AC0B-ED69D92C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3B8E9-DD94-4A2D-B6ED-60D5F908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7785C-EA56-430C-B267-75588563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9DCC0-DF90-4F6F-9630-FD716180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C9A75-2FBC-4D3A-8512-AEEE65CE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04123-9F83-4778-9322-D2A52C47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0C41D-9234-455E-93AC-DB4B7951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A9444-054B-49F1-B93C-9EEF7998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1DA70-F2C7-43E4-858A-BD4FED0E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DB8-D355-4A9A-8CB2-02971AB2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C7C49-41BA-4F79-A92C-2592664C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1C548-F145-49D7-AF21-ADBA31BB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439C9-1661-4F6F-B791-38291993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0508B-DE84-44C4-B43A-04DDD8E5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5CF91-0234-4A6E-8856-E0121899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F6A52-270B-4610-BB73-55B4CE3D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D19DF-2CBE-45F9-98B0-8CEA5EF5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CAEA7-72AD-4E6B-952C-1CD26496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94E50-9E5A-4669-8194-97A3162D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CDC5F-FFB3-46FA-921C-0EAF6B46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C8E3-BBF7-4EBC-BE8F-8653DFD3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8396C-D5DB-423E-928B-620A9F3E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1C467-8369-480C-BCC5-90ECEF06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A3087-1D7B-44C6-B36F-B6E3014F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B0D82-3B37-4664-A468-E05BBEFB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15D10-4635-436F-AFB5-967E4B07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3F092-4100-4CE7-A08B-D55D3E2F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07098-EBCD-4754-8ED9-8D71C7B6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D7062-6FB5-497A-B3FD-30A67316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34641-C4D3-4065-A45E-03E6AC17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AB45B-A8F0-4A12-93FD-CB80A131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9618-4A3C-47FA-BE0E-148FE5773A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185A-707E-4B63-B0F2-A7643A34BB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3027-5048-4511-BF6A-F04C17AB9A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DEA4-A64A-4505-AFCF-403C65F874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F6CB-DCF9-490F-81B7-831979F040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BB31-0CCA-4E51-82D3-9DB924B497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AAED-A49B-47AF-B4F3-E6B5656FE2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65BC-5976-4169-9686-950E7BF94D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7BA4-5F06-458C-A37C-0278EEE810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CE68-5C6D-4132-955D-74F578CF63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371D-7871-4A44-87D1-0889B496BF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CE64-3470-4EE3-8CED-20E3FDFA19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88C5-DEF2-4D7B-BC84-1CBDAE7152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8465-63ED-49D0-BEB4-CB6FFC37CE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59BF-80A8-4058-9665-4BA21CCBD7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B3B9-75FB-4BCE-9A95-3AB1738841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BE7A-F139-4DE0-B6FA-C29DA7A765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E683-DAC7-4996-9E01-E469773786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8F9C-F503-4FA2-BF55-028EE1D22C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582A-B407-473D-B8CC-5FE17C62EB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FD36-6EF3-4CF2-B395-E711BE205F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BBAB-7856-440C-B43F-0B6DB0470E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D341-BD77-43F6-B2D4-F07EA714E5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36A1-FEC3-48BF-9BB0-C26C920DD6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9033-0E38-4A79-B903-755BCC7484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F70F-30EF-4BAD-B3AB-3F93615EC5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AC96-D147-437B-875F-F580517882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E77E-DF2A-4869-8AEB-1208A3676A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ABA0-6E89-4EDF-A3D9-CD7D8A9796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1485-32E0-4F3E-AA4C-F7A469600F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7A01-BB24-4AF4-BC0D-5F58C76634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1B5F-0BF7-4948-902B-D4F9243291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00AC-829D-4CA7-AB49-705E3F3336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DB3B-732D-45FD-9883-7AFD13345A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FC9A-EA6F-419C-A9B7-DEE38EEF0D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C8B4-DC44-4FD8-8ADA-FFD3EC1B29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B5F0-6B35-4D07-85AE-F240211BE9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8FF5-EE31-4467-962F-5D4EFF8FE7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2213-3BC2-4DCA-A54B-47AA0EE3C9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6AF3-3A4A-4D15-A59A-86DF7C65FB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A0A5-EC4D-45A5-B32F-96BA024FD9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19AC-6AFB-4D15-9BEE-14215C97CF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A6F6-F3E2-4E30-80B6-FE789F66C0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321E-4AD8-438F-9BD9-843C9BF73B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7939-7998-4A5D-B7A5-5C2E2A7603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B55A-C02E-48CA-9D71-D8DB8BE2C8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3F7C-49D5-4E3D-B1A9-6EB17B2526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5A3A-7B25-4A56-8C12-5DE4DABF15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B25B-660E-41A3-8E18-0045A8402D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16F5-01C0-4F2A-8968-A6067005BB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2360520" y="1241280"/>
            <a:ext cx="3762360" cy="43812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6" descr=""/>
          <p:cNvPicPr/>
          <p:nvPr/>
        </p:nvPicPr>
        <p:blipFill>
          <a:blip r:embed="rId2"/>
          <a:stretch/>
        </p:blipFill>
        <p:spPr>
          <a:xfrm>
            <a:off x="2720880" y="2498760"/>
            <a:ext cx="3067200" cy="409572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7"/>
          <p:cNvSpPr/>
          <p:nvPr/>
        </p:nvSpPr>
        <p:spPr>
          <a:xfrm>
            <a:off x="3894120" y="4707000"/>
            <a:ext cx="2087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40988"/>
          <p:cNvSpPr/>
          <p:nvPr/>
        </p:nvSpPr>
        <p:spPr>
          <a:xfrm>
            <a:off x="2722680" y="5025960"/>
            <a:ext cx="325908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40989"/>
          <p:cNvSpPr/>
          <p:nvPr/>
        </p:nvSpPr>
        <p:spPr>
          <a:xfrm>
            <a:off x="2568600" y="5570640"/>
            <a:ext cx="3259080" cy="482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40990"/>
          <p:cNvSpPr/>
          <p:nvPr/>
        </p:nvSpPr>
        <p:spPr>
          <a:xfrm>
            <a:off x="2722680" y="6114960"/>
            <a:ext cx="106992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图片 132097" descr=""/>
          <p:cNvPicPr/>
          <p:nvPr/>
        </p:nvPicPr>
        <p:blipFill>
          <a:blip r:embed="rId1"/>
          <a:stretch/>
        </p:blipFill>
        <p:spPr>
          <a:xfrm>
            <a:off x="709560" y="876240"/>
            <a:ext cx="7039080" cy="3581640"/>
          </a:xfrm>
          <a:prstGeom prst="rect">
            <a:avLst/>
          </a:prstGeom>
          <a:ln w="0">
            <a:noFill/>
          </a:ln>
        </p:spPr>
      </p:pic>
      <p:sp>
        <p:nvSpPr>
          <p:cNvPr id="1385" name="矩形 132098"/>
          <p:cNvSpPr/>
          <p:nvPr/>
        </p:nvSpPr>
        <p:spPr>
          <a:xfrm>
            <a:off x="1130400" y="1716120"/>
            <a:ext cx="706896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矩形 132099"/>
          <p:cNvSpPr/>
          <p:nvPr/>
        </p:nvSpPr>
        <p:spPr>
          <a:xfrm>
            <a:off x="1612800" y="2639880"/>
            <a:ext cx="469584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矩形 132100"/>
          <p:cNvSpPr/>
          <p:nvPr/>
        </p:nvSpPr>
        <p:spPr>
          <a:xfrm>
            <a:off x="2463840" y="3535200"/>
            <a:ext cx="273348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132101"/>
          <p:cNvSpPr/>
          <p:nvPr/>
        </p:nvSpPr>
        <p:spPr>
          <a:xfrm>
            <a:off x="2309760" y="4048200"/>
            <a:ext cx="273384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图片 131073" descr=""/>
          <p:cNvPicPr/>
          <p:nvPr/>
        </p:nvPicPr>
        <p:blipFill>
          <a:blip r:embed="rId1"/>
          <a:stretch/>
        </p:blipFill>
        <p:spPr>
          <a:xfrm>
            <a:off x="203040" y="838080"/>
            <a:ext cx="8001000" cy="2819520"/>
          </a:xfrm>
          <a:prstGeom prst="rect">
            <a:avLst/>
          </a:prstGeom>
          <a:ln w="0">
            <a:noFill/>
          </a:ln>
        </p:spPr>
      </p:pic>
      <p:pic>
        <p:nvPicPr>
          <p:cNvPr id="1390" name="图片 131074" descr=""/>
          <p:cNvPicPr/>
          <p:nvPr/>
        </p:nvPicPr>
        <p:blipFill>
          <a:blip r:embed="rId2"/>
          <a:stretch/>
        </p:blipFill>
        <p:spPr>
          <a:xfrm>
            <a:off x="784080" y="3681360"/>
            <a:ext cx="7524720" cy="1933560"/>
          </a:xfrm>
          <a:prstGeom prst="rect">
            <a:avLst/>
          </a:prstGeom>
          <a:ln w="0">
            <a:noFill/>
          </a:ln>
        </p:spPr>
      </p:pic>
      <p:sp>
        <p:nvSpPr>
          <p:cNvPr id="1391" name="矩形 131075"/>
          <p:cNvSpPr/>
          <p:nvPr/>
        </p:nvSpPr>
        <p:spPr>
          <a:xfrm>
            <a:off x="779400" y="2641680"/>
            <a:ext cx="756288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矩形 131076"/>
          <p:cNvSpPr/>
          <p:nvPr/>
        </p:nvSpPr>
        <p:spPr>
          <a:xfrm>
            <a:off x="758880" y="3156120"/>
            <a:ext cx="756288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131077"/>
          <p:cNvSpPr/>
          <p:nvPr/>
        </p:nvSpPr>
        <p:spPr>
          <a:xfrm>
            <a:off x="727200" y="3608280"/>
            <a:ext cx="756288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131078"/>
          <p:cNvSpPr/>
          <p:nvPr/>
        </p:nvSpPr>
        <p:spPr>
          <a:xfrm>
            <a:off x="708120" y="4152960"/>
            <a:ext cx="756288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矩形 131079"/>
          <p:cNvSpPr/>
          <p:nvPr/>
        </p:nvSpPr>
        <p:spPr>
          <a:xfrm>
            <a:off x="696960" y="4665600"/>
            <a:ext cx="756288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131080"/>
          <p:cNvSpPr/>
          <p:nvPr/>
        </p:nvSpPr>
        <p:spPr>
          <a:xfrm>
            <a:off x="696960" y="5189400"/>
            <a:ext cx="756288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7" name="图片 130049" descr=""/>
          <p:cNvPicPr/>
          <p:nvPr/>
        </p:nvPicPr>
        <p:blipFill>
          <a:blip r:embed="rId1"/>
          <a:stretch/>
        </p:blipFill>
        <p:spPr>
          <a:xfrm>
            <a:off x="237960" y="946080"/>
            <a:ext cx="805824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图片 129025" descr=""/>
          <p:cNvPicPr/>
          <p:nvPr/>
        </p:nvPicPr>
        <p:blipFill>
          <a:blip r:embed="rId1"/>
          <a:stretch/>
        </p:blipFill>
        <p:spPr>
          <a:xfrm>
            <a:off x="706320" y="901800"/>
            <a:ext cx="7629480" cy="3581280"/>
          </a:xfrm>
          <a:prstGeom prst="rect">
            <a:avLst/>
          </a:prstGeom>
          <a:ln w="0">
            <a:noFill/>
          </a:ln>
        </p:spPr>
      </p:pic>
      <p:sp>
        <p:nvSpPr>
          <p:cNvPr id="1399" name="矩形 129026"/>
          <p:cNvSpPr/>
          <p:nvPr/>
        </p:nvSpPr>
        <p:spPr>
          <a:xfrm>
            <a:off x="760320" y="905040"/>
            <a:ext cx="7758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129027"/>
          <p:cNvSpPr/>
          <p:nvPr/>
        </p:nvSpPr>
        <p:spPr>
          <a:xfrm>
            <a:off x="636480" y="1407960"/>
            <a:ext cx="775836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129028"/>
          <p:cNvSpPr/>
          <p:nvPr/>
        </p:nvSpPr>
        <p:spPr>
          <a:xfrm>
            <a:off x="534960" y="1922400"/>
            <a:ext cx="775800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矩形 129029"/>
          <p:cNvSpPr/>
          <p:nvPr/>
        </p:nvSpPr>
        <p:spPr>
          <a:xfrm>
            <a:off x="534960" y="2395440"/>
            <a:ext cx="775800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129030"/>
          <p:cNvSpPr/>
          <p:nvPr/>
        </p:nvSpPr>
        <p:spPr>
          <a:xfrm>
            <a:off x="596880" y="2930400"/>
            <a:ext cx="775800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129031"/>
          <p:cNvSpPr/>
          <p:nvPr/>
        </p:nvSpPr>
        <p:spPr>
          <a:xfrm>
            <a:off x="596880" y="3454560"/>
            <a:ext cx="775800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矩形 129032"/>
          <p:cNvSpPr/>
          <p:nvPr/>
        </p:nvSpPr>
        <p:spPr>
          <a:xfrm>
            <a:off x="555480" y="3989520"/>
            <a:ext cx="7758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6" name="图片 128001" descr=""/>
          <p:cNvPicPr/>
          <p:nvPr/>
        </p:nvPicPr>
        <p:blipFill>
          <a:blip r:embed="rId1"/>
          <a:stretch/>
        </p:blipFill>
        <p:spPr>
          <a:xfrm>
            <a:off x="357120" y="882720"/>
            <a:ext cx="812484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7" name="图片 126977" descr=""/>
          <p:cNvPicPr/>
          <p:nvPr/>
        </p:nvPicPr>
        <p:blipFill>
          <a:blip r:embed="rId1"/>
          <a:stretch/>
        </p:blipFill>
        <p:spPr>
          <a:xfrm>
            <a:off x="757080" y="1036800"/>
            <a:ext cx="7477200" cy="4047840"/>
          </a:xfrm>
          <a:prstGeom prst="rect">
            <a:avLst/>
          </a:prstGeom>
          <a:ln w="0">
            <a:noFill/>
          </a:ln>
        </p:spPr>
      </p:pic>
      <p:sp>
        <p:nvSpPr>
          <p:cNvPr id="1408" name="矩形 126978"/>
          <p:cNvSpPr/>
          <p:nvPr/>
        </p:nvSpPr>
        <p:spPr>
          <a:xfrm>
            <a:off x="843120" y="1058760"/>
            <a:ext cx="766584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矩形 126979"/>
          <p:cNvSpPr/>
          <p:nvPr/>
        </p:nvSpPr>
        <p:spPr>
          <a:xfrm>
            <a:off x="668160" y="1593720"/>
            <a:ext cx="766620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矩形 126980"/>
          <p:cNvSpPr/>
          <p:nvPr/>
        </p:nvSpPr>
        <p:spPr>
          <a:xfrm>
            <a:off x="647640" y="2076480"/>
            <a:ext cx="76662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矩形 126981"/>
          <p:cNvSpPr/>
          <p:nvPr/>
        </p:nvSpPr>
        <p:spPr>
          <a:xfrm>
            <a:off x="617400" y="2610000"/>
            <a:ext cx="76662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矩形 126982"/>
          <p:cNvSpPr/>
          <p:nvPr/>
        </p:nvSpPr>
        <p:spPr>
          <a:xfrm>
            <a:off x="587520" y="3144960"/>
            <a:ext cx="766584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矩形 126983"/>
          <p:cNvSpPr/>
          <p:nvPr/>
        </p:nvSpPr>
        <p:spPr>
          <a:xfrm>
            <a:off x="608040" y="3595680"/>
            <a:ext cx="766584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矩形 126984"/>
          <p:cNvSpPr/>
          <p:nvPr/>
        </p:nvSpPr>
        <p:spPr>
          <a:xfrm>
            <a:off x="628560" y="4119480"/>
            <a:ext cx="76662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矩形 126985"/>
          <p:cNvSpPr/>
          <p:nvPr/>
        </p:nvSpPr>
        <p:spPr>
          <a:xfrm>
            <a:off x="587520" y="4633920"/>
            <a:ext cx="766584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1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0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5" dur="1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0" dur="1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图片 125953" descr=""/>
          <p:cNvPicPr/>
          <p:nvPr/>
        </p:nvPicPr>
        <p:blipFill>
          <a:blip r:embed="rId1"/>
          <a:stretch/>
        </p:blipFill>
        <p:spPr>
          <a:xfrm>
            <a:off x="835200" y="1160640"/>
            <a:ext cx="7372080" cy="2504880"/>
          </a:xfrm>
          <a:prstGeom prst="rect">
            <a:avLst/>
          </a:prstGeom>
          <a:ln w="0">
            <a:noFill/>
          </a:ln>
        </p:spPr>
      </p:pic>
      <p:sp>
        <p:nvSpPr>
          <p:cNvPr id="1417" name="矩形 125954"/>
          <p:cNvSpPr/>
          <p:nvPr/>
        </p:nvSpPr>
        <p:spPr>
          <a:xfrm>
            <a:off x="770040" y="1212840"/>
            <a:ext cx="7634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矩形 125955"/>
          <p:cNvSpPr/>
          <p:nvPr/>
        </p:nvSpPr>
        <p:spPr>
          <a:xfrm>
            <a:off x="709560" y="1725480"/>
            <a:ext cx="7634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矩形 125956"/>
          <p:cNvSpPr/>
          <p:nvPr/>
        </p:nvSpPr>
        <p:spPr>
          <a:xfrm>
            <a:off x="668160" y="2208240"/>
            <a:ext cx="7634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矩形 125957"/>
          <p:cNvSpPr/>
          <p:nvPr/>
        </p:nvSpPr>
        <p:spPr>
          <a:xfrm>
            <a:off x="514440" y="2784600"/>
            <a:ext cx="7634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矩形 125958"/>
          <p:cNvSpPr/>
          <p:nvPr/>
        </p:nvSpPr>
        <p:spPr>
          <a:xfrm>
            <a:off x="523800" y="3267000"/>
            <a:ext cx="7634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2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7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2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图片 140289" descr=""/>
          <p:cNvPicPr/>
          <p:nvPr/>
        </p:nvPicPr>
        <p:blipFill>
          <a:blip r:embed="rId1"/>
          <a:stretch/>
        </p:blipFill>
        <p:spPr>
          <a:xfrm>
            <a:off x="304920" y="912960"/>
            <a:ext cx="8534160" cy="3762360"/>
          </a:xfrm>
          <a:prstGeom prst="rect">
            <a:avLst/>
          </a:prstGeom>
          <a:ln w="0">
            <a:noFill/>
          </a:ln>
        </p:spPr>
      </p:pic>
      <p:sp>
        <p:nvSpPr>
          <p:cNvPr id="1338" name="矩形 140290"/>
          <p:cNvSpPr/>
          <p:nvPr/>
        </p:nvSpPr>
        <p:spPr>
          <a:xfrm>
            <a:off x="4632480" y="1635120"/>
            <a:ext cx="6998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1"/>
          <p:cNvSpPr/>
          <p:nvPr/>
        </p:nvSpPr>
        <p:spPr>
          <a:xfrm>
            <a:off x="841320" y="1922400"/>
            <a:ext cx="12128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2"/>
          <p:cNvSpPr/>
          <p:nvPr/>
        </p:nvSpPr>
        <p:spPr>
          <a:xfrm>
            <a:off x="800280" y="2232000"/>
            <a:ext cx="555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3"/>
          <p:cNvSpPr/>
          <p:nvPr/>
        </p:nvSpPr>
        <p:spPr>
          <a:xfrm>
            <a:off x="2895480" y="2232000"/>
            <a:ext cx="843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140294"/>
          <p:cNvSpPr/>
          <p:nvPr/>
        </p:nvSpPr>
        <p:spPr>
          <a:xfrm>
            <a:off x="3573360" y="2550960"/>
            <a:ext cx="6685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40295"/>
          <p:cNvSpPr/>
          <p:nvPr/>
        </p:nvSpPr>
        <p:spPr>
          <a:xfrm>
            <a:off x="4950000" y="2550960"/>
            <a:ext cx="6681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40296"/>
          <p:cNvSpPr/>
          <p:nvPr/>
        </p:nvSpPr>
        <p:spPr>
          <a:xfrm>
            <a:off x="4538520" y="3486240"/>
            <a:ext cx="1305000" cy="2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40297"/>
          <p:cNvSpPr/>
          <p:nvPr/>
        </p:nvSpPr>
        <p:spPr>
          <a:xfrm>
            <a:off x="5052960" y="3773520"/>
            <a:ext cx="1305000" cy="2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图片 139265" descr=""/>
          <p:cNvPicPr/>
          <p:nvPr/>
        </p:nvPicPr>
        <p:blipFill>
          <a:blip r:embed="rId1"/>
          <a:stretch/>
        </p:blipFill>
        <p:spPr>
          <a:xfrm>
            <a:off x="357120" y="900000"/>
            <a:ext cx="8505720" cy="4295880"/>
          </a:xfrm>
          <a:prstGeom prst="rect">
            <a:avLst/>
          </a:prstGeom>
          <a:ln w="0">
            <a:noFill/>
          </a:ln>
        </p:spPr>
      </p:pic>
      <p:sp>
        <p:nvSpPr>
          <p:cNvPr id="1347" name="矩形 139266"/>
          <p:cNvSpPr/>
          <p:nvPr/>
        </p:nvSpPr>
        <p:spPr>
          <a:xfrm>
            <a:off x="8259840" y="15717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39267"/>
          <p:cNvSpPr/>
          <p:nvPr/>
        </p:nvSpPr>
        <p:spPr>
          <a:xfrm>
            <a:off x="8291520" y="26607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39268"/>
          <p:cNvSpPr/>
          <p:nvPr/>
        </p:nvSpPr>
        <p:spPr>
          <a:xfrm>
            <a:off x="8321760" y="43768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0" name="图片 138241" descr=""/>
          <p:cNvPicPr/>
          <p:nvPr/>
        </p:nvPicPr>
        <p:blipFill>
          <a:blip r:embed="rId1"/>
          <a:stretch/>
        </p:blipFill>
        <p:spPr>
          <a:xfrm>
            <a:off x="420840" y="884160"/>
            <a:ext cx="8505720" cy="3133800"/>
          </a:xfrm>
          <a:prstGeom prst="rect">
            <a:avLst/>
          </a:prstGeom>
          <a:ln w="0">
            <a:noFill/>
          </a:ln>
        </p:spPr>
      </p:pic>
      <p:sp>
        <p:nvSpPr>
          <p:cNvPr id="1351" name="矩形 138242"/>
          <p:cNvSpPr/>
          <p:nvPr/>
        </p:nvSpPr>
        <p:spPr>
          <a:xfrm>
            <a:off x="4613400" y="905040"/>
            <a:ext cx="596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8243"/>
          <p:cNvSpPr/>
          <p:nvPr/>
        </p:nvSpPr>
        <p:spPr>
          <a:xfrm>
            <a:off x="8302680" y="905040"/>
            <a:ext cx="3096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8244"/>
          <p:cNvSpPr/>
          <p:nvPr/>
        </p:nvSpPr>
        <p:spPr>
          <a:xfrm>
            <a:off x="2846520" y="1224000"/>
            <a:ext cx="566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8245"/>
          <p:cNvSpPr/>
          <p:nvPr/>
        </p:nvSpPr>
        <p:spPr>
          <a:xfrm>
            <a:off x="3728880" y="2149560"/>
            <a:ext cx="7509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38246"/>
          <p:cNvSpPr/>
          <p:nvPr/>
        </p:nvSpPr>
        <p:spPr>
          <a:xfrm>
            <a:off x="646200" y="3084480"/>
            <a:ext cx="592776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8247"/>
          <p:cNvSpPr/>
          <p:nvPr/>
        </p:nvSpPr>
        <p:spPr>
          <a:xfrm>
            <a:off x="1273320" y="3382920"/>
            <a:ext cx="211608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8248"/>
          <p:cNvSpPr/>
          <p:nvPr/>
        </p:nvSpPr>
        <p:spPr>
          <a:xfrm>
            <a:off x="1386000" y="3711600"/>
            <a:ext cx="211608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图片 137217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819920" cy="4152960"/>
          </a:xfrm>
          <a:prstGeom prst="rect">
            <a:avLst/>
          </a:prstGeom>
          <a:ln w="0">
            <a:noFill/>
          </a:ln>
        </p:spPr>
      </p:pic>
      <p:sp>
        <p:nvSpPr>
          <p:cNvPr id="1359" name="矩形 137218"/>
          <p:cNvSpPr/>
          <p:nvPr/>
        </p:nvSpPr>
        <p:spPr>
          <a:xfrm>
            <a:off x="677880" y="1224000"/>
            <a:ext cx="78818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7219"/>
          <p:cNvSpPr/>
          <p:nvPr/>
        </p:nvSpPr>
        <p:spPr>
          <a:xfrm>
            <a:off x="698400" y="1522440"/>
            <a:ext cx="78822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7220"/>
          <p:cNvSpPr/>
          <p:nvPr/>
        </p:nvSpPr>
        <p:spPr>
          <a:xfrm>
            <a:off x="595440" y="2744640"/>
            <a:ext cx="741024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7221"/>
          <p:cNvSpPr/>
          <p:nvPr/>
        </p:nvSpPr>
        <p:spPr>
          <a:xfrm>
            <a:off x="822240" y="3360600"/>
            <a:ext cx="418320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7222"/>
          <p:cNvSpPr/>
          <p:nvPr/>
        </p:nvSpPr>
        <p:spPr>
          <a:xfrm>
            <a:off x="884160" y="3946680"/>
            <a:ext cx="418320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137223"/>
          <p:cNvSpPr/>
          <p:nvPr/>
        </p:nvSpPr>
        <p:spPr>
          <a:xfrm>
            <a:off x="1440000" y="4532400"/>
            <a:ext cx="204624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5" name="图片 136193" descr=""/>
          <p:cNvPicPr/>
          <p:nvPr/>
        </p:nvPicPr>
        <p:blipFill>
          <a:blip r:embed="rId1"/>
          <a:stretch/>
        </p:blipFill>
        <p:spPr>
          <a:xfrm>
            <a:off x="190440" y="888840"/>
            <a:ext cx="8001000" cy="4114800"/>
          </a:xfrm>
          <a:prstGeom prst="rect">
            <a:avLst/>
          </a:prstGeom>
          <a:ln w="0">
            <a:noFill/>
          </a:ln>
        </p:spPr>
      </p:pic>
      <p:sp>
        <p:nvSpPr>
          <p:cNvPr id="1366" name="矩形 136194"/>
          <p:cNvSpPr/>
          <p:nvPr/>
        </p:nvSpPr>
        <p:spPr>
          <a:xfrm>
            <a:off x="7480440" y="2538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136195"/>
          <p:cNvSpPr/>
          <p:nvPr/>
        </p:nvSpPr>
        <p:spPr>
          <a:xfrm>
            <a:off x="6032520" y="36068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136196"/>
          <p:cNvSpPr/>
          <p:nvPr/>
        </p:nvSpPr>
        <p:spPr>
          <a:xfrm>
            <a:off x="957240" y="46134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图片 135169" descr=""/>
          <p:cNvPicPr/>
          <p:nvPr/>
        </p:nvPicPr>
        <p:blipFill>
          <a:blip r:embed="rId1"/>
          <a:stretch/>
        </p:blipFill>
        <p:spPr>
          <a:xfrm>
            <a:off x="295200" y="969840"/>
            <a:ext cx="8096400" cy="4486320"/>
          </a:xfrm>
          <a:prstGeom prst="rect">
            <a:avLst/>
          </a:prstGeom>
          <a:ln w="0">
            <a:noFill/>
          </a:ln>
        </p:spPr>
      </p:pic>
      <p:sp>
        <p:nvSpPr>
          <p:cNvPr id="1370" name="矩形 135170"/>
          <p:cNvSpPr/>
          <p:nvPr/>
        </p:nvSpPr>
        <p:spPr>
          <a:xfrm>
            <a:off x="7529400" y="1994040"/>
            <a:ext cx="771480" cy="33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5171"/>
          <p:cNvSpPr/>
          <p:nvPr/>
        </p:nvSpPr>
        <p:spPr>
          <a:xfrm>
            <a:off x="708120" y="2487600"/>
            <a:ext cx="152064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5172"/>
          <p:cNvSpPr/>
          <p:nvPr/>
        </p:nvSpPr>
        <p:spPr>
          <a:xfrm>
            <a:off x="1417680" y="4048200"/>
            <a:ext cx="5837040" cy="33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5173"/>
          <p:cNvSpPr/>
          <p:nvPr/>
        </p:nvSpPr>
        <p:spPr>
          <a:xfrm>
            <a:off x="2095560" y="4583160"/>
            <a:ext cx="260172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5174"/>
          <p:cNvSpPr/>
          <p:nvPr/>
        </p:nvSpPr>
        <p:spPr>
          <a:xfrm>
            <a:off x="2413080" y="5108400"/>
            <a:ext cx="213840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5" name="图片 134145" descr=""/>
          <p:cNvPicPr/>
          <p:nvPr/>
        </p:nvPicPr>
        <p:blipFill>
          <a:blip r:embed="rId1"/>
          <a:stretch/>
        </p:blipFill>
        <p:spPr>
          <a:xfrm>
            <a:off x="685800" y="973080"/>
            <a:ext cx="7010280" cy="3438720"/>
          </a:xfrm>
          <a:prstGeom prst="rect">
            <a:avLst/>
          </a:prstGeom>
          <a:ln w="0">
            <a:noFill/>
          </a:ln>
        </p:spPr>
      </p:pic>
      <p:sp>
        <p:nvSpPr>
          <p:cNvPr id="1376" name="矩形 134146"/>
          <p:cNvSpPr/>
          <p:nvPr/>
        </p:nvSpPr>
        <p:spPr>
          <a:xfrm>
            <a:off x="1087560" y="1828800"/>
            <a:ext cx="683424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134147"/>
          <p:cNvSpPr/>
          <p:nvPr/>
        </p:nvSpPr>
        <p:spPr>
          <a:xfrm>
            <a:off x="2084400" y="2773440"/>
            <a:ext cx="401796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134148"/>
          <p:cNvSpPr/>
          <p:nvPr/>
        </p:nvSpPr>
        <p:spPr>
          <a:xfrm>
            <a:off x="2155680" y="3687840"/>
            <a:ext cx="401796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9" name="图片 133121" descr=""/>
          <p:cNvPicPr/>
          <p:nvPr/>
        </p:nvPicPr>
        <p:blipFill>
          <a:blip r:embed="rId1"/>
          <a:stretch/>
        </p:blipFill>
        <p:spPr>
          <a:xfrm>
            <a:off x="701640" y="895320"/>
            <a:ext cx="7334280" cy="2476440"/>
          </a:xfrm>
          <a:prstGeom prst="rect">
            <a:avLst/>
          </a:prstGeom>
          <a:ln w="0">
            <a:noFill/>
          </a:ln>
        </p:spPr>
      </p:pic>
      <p:sp>
        <p:nvSpPr>
          <p:cNvPr id="1380" name="矩形 133122"/>
          <p:cNvSpPr/>
          <p:nvPr/>
        </p:nvSpPr>
        <p:spPr>
          <a:xfrm>
            <a:off x="1170000" y="1378080"/>
            <a:ext cx="6832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矩形 133123"/>
          <p:cNvSpPr/>
          <p:nvPr/>
        </p:nvSpPr>
        <p:spPr>
          <a:xfrm>
            <a:off x="1735200" y="1870200"/>
            <a:ext cx="4059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矩形 133124"/>
          <p:cNvSpPr/>
          <p:nvPr/>
        </p:nvSpPr>
        <p:spPr>
          <a:xfrm>
            <a:off x="1806480" y="2363760"/>
            <a:ext cx="4059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33125"/>
          <p:cNvSpPr/>
          <p:nvPr/>
        </p:nvSpPr>
        <p:spPr>
          <a:xfrm>
            <a:off x="1785960" y="2867040"/>
            <a:ext cx="4059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30T08:15:46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